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CBE-4CBC-4181-AF05-AEE64D9A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54C-AAFC-45D4-873E-EF4C0B9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C22-0CA3-49F6-BAEC-F75BE4CC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0BA-D132-4BE7-B92D-FEC90CB5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7208-B361-431C-A9FD-44E2AEBA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8DB-C847-4716-9747-4244B2F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FB63-A481-4A64-AC81-93F75C9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731-6301-45A3-9211-0BA193D7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B52-B3AD-465E-BA3B-12ECAAA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C95-4A68-4452-AD5E-4D573A6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6A2E-9B5E-4284-B37D-CFC72B7E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104-5B0B-4789-A52B-390CB8D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C473-86B7-49C7-82BA-FF82294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D31F-3F76-4223-A02C-4E4B921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6EE-CEFD-488F-A31D-B5A3312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6C0-4302-4034-8A91-C6351A0D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44D3-FBF6-4F07-9062-67DE30E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17B-5305-4EB2-80FF-DA9C647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DF2-2EE2-4853-B2C7-03919BE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311-1105-480F-B349-605FA30F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C5C-56D4-4F22-9FD4-BCBD719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7B6-AA3E-4CDF-9CAA-606AE34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DF1-4A12-4831-B08E-CFB2ADC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069-79AA-453D-BC96-CC9BEF7B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A661-554F-4C17-AEC7-6CF9A1E3B8EA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CC9-DB90-4DA7-8517-1773739CA4D8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sccb.org/nab/bible/acts/acts1.htm#v8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Go Tell The Good New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11, Lesson 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view and Introduc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1-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3689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05520" y="1676520"/>
            <a:ext cx="2952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ter Preach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 Jerusalem o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ntecost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90560"/>
            <a:ext cx="4343400" cy="3020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postles will be His witnes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in Jerusal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 throughout Ju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and Samar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and to the ends of the earth (see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Acts 1: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828960" cy="306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228600"/>
          <a:ext cx="7315200" cy="6635880"/>
        </p:xfrm>
        <a:graphic>
          <a:graphicData uri="http://schemas.openxmlformats.org/drawingml/2006/table">
            <a:tbl>
              <a:tblPr/>
              <a:tblGrid>
                <a:gridCol w="492120"/>
                <a:gridCol w="1254240"/>
                <a:gridCol w="556884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Great Commi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th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, teach all n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ptiz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name of Father, Son, Holy Gh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with you alway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whole world, preach to every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and baptis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be sav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s will follow those who belie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ach among all n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ntance and remission of si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his 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 for power from on high (the Spirit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7086600" y="914400"/>
            <a:ext cx="17524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mbin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ach/teach gosp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the belie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is Bapt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ll be saved/ remission of s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ch to observe all things comma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Great Commission Carried Out In Act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074600"/>
            <a:ext cx="8610480" cy="578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Bible History Review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tivity of Juda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urn from Captiv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arly Church*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etters to Christians*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86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362320" y="533520"/>
            <a:ext cx="413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 Tell The Good Ne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is Quart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udy How The Good News Was Spre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The Great Commission was carried out (As seen in the book of ACTS)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m the ASCENSION of Jesus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Paul the prisoner in 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sic Divisions of AC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s 1-12 : Pete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s 13-28: Pau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66680" y="1066680"/>
          <a:ext cx="6858000" cy="5321520"/>
        </p:xfrm>
        <a:graphic>
          <a:graphicData uri="http://schemas.openxmlformats.org/drawingml/2006/table">
            <a:tbl>
              <a:tblPr/>
              <a:tblGrid>
                <a:gridCol w="1447920"/>
                <a:gridCol w="874800"/>
                <a:gridCol w="278280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Jews (Acts 2)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Samaritans (Acts 8:14-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Gentiles (Acts 10:25-4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TS 1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</a:t>
                      </a:r>
                      <a:br>
                        <a:rPr sz="1000"/>
                      </a:b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Matthew 16:19--"keys"are for opening doo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first missionary journe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Acts 13-14)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second missionary journey (Acts 15:36-18: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third missionary journey (Acts 18:23-21:14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TS 13-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192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0920" y="4343400"/>
            <a:ext cx="61884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971800" y="38088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ts in Summary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Span of the Book of Act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ext 30 Years after Chr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 29/30 – AD 63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esus’ Ascension to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ul’s First Roman Imprison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uthor of Act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: Physician/Historia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ote Gospel of Luke – 58-60A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ote book of Acts – 60/61-64A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is Study Will Show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King is Chr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Kingdom is His Church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Citizens Are Those Who Obey the Gosp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371600" y="22860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ood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Start 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7:20:38Z</dcterms:created>
  <dc:creator> Tab Vines</dc:creator>
  <dc:description/>
  <dc:language>en-US</dc:language>
  <cp:lastModifiedBy>Frank D Vines</cp:lastModifiedBy>
  <dcterms:modified xsi:type="dcterms:W3CDTF">2007-04-01T20:38:34Z</dcterms:modified>
  <cp:revision>3</cp:revision>
  <dc:subject/>
  <dc:title>Go Tell The Good News</dc:title>
</cp:coreProperties>
</file>